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8B3-0615-451C-B5DD-D20F9402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9A6-0F93-431B-A0B0-7401B3C1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27A-8382-4597-9DC1-90BDA091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68AE-7F8B-4792-A2C3-BD091D59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819-B2EB-4FA5-A3F2-944DA69C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1EA-1D22-46E6-91AF-5F59804B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8862-4589-40FA-B44C-3F09C350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ED41-2C7C-4DF0-A7B6-19C8B16D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1FD-9343-4D2C-A1AB-83D693EB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D4D-6AF7-4136-9CCA-DDEC0E6B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D791-B3CA-474D-8583-09D57115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3A3-2940-4FDE-B1AA-0099069F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FF1D-8EC5-47B1-BF9C-1FF871BCD1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cior.edu.ru/card/1610/ponyatie-o-sistemah-schisleniya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появилась система счислен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1915920"/>
            <a:ext cx="7344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атриваемы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люди стали использовать сч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они счита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изображали числа подсчитанных вещ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система счислен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истема счисления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– это способ записи чисел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рождение систем счисл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евние люди для записи чисел пользовались зарубками на дереве или камне. Количество этих зарубок и определяло величину числа. Но такой способ записи чисел затруднял работу с большими числами. Стремление преодолеть это неудобство положило начало появлению различных способов записи чисел, а соответственно и различных систем счис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ись чисел на дощечк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2809800" y="1600200"/>
            <a:ext cx="352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стемы счисления в современном мир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ая известная система счисления и используемая нами каждый день – это десятичная система счисления. Мы привыкли к ней настолько, что уже не замечаем насколько она удобна. Цифры, привычные нам с детства, изобрели индейцы, но в Европу они попали благодаря арабам, поэтому их называю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рабски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зникновение десятичной системы счисл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новение десятичной системы счисления связывают с количеством пальцев на двух руках: пальцы рук – это счетный прибор, который всегда был у человека «под руко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льцы рук как счетный прибо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2365200" y="1600200"/>
            <a:ext cx="4413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ы счисления появились очень дав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ой и привычной нам системой счисления является десятичн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сятичная система счисления связана с количеством пальцев на обоих рук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 информации: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едеральный центр информационно-образовательных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у выполнили ученики 10 класса (группа «Историков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ванов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тров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доров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0:09:40Z</dcterms:created>
  <dc:creator>Joni_mnim</dc:creator>
  <dc:description/>
  <dc:language>en-US</dc:language>
  <cp:lastModifiedBy>Joni_mnim</cp:lastModifiedBy>
  <dcterms:modified xsi:type="dcterms:W3CDTF">2011-05-18T10:55:13Z</dcterms:modified>
  <cp:revision>7</cp:revision>
  <dc:subject/>
  <dc:title>Как появилась система счисления?</dc:title>
</cp:coreProperties>
</file>